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bomb.wav" ContentType="audio/x-wav"/>
  <Override PartName="/ppt/media/explode.wav" ContentType="audio/x-wav"/>
  <Override PartName="/ppt/media/drumroll.wav" ContentType="audio/x-wav"/>
  <Override PartName="/ppt/media/applause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1554-2DFB-4758-9216-D7D8E2B22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A977-3E33-4806-B465-C909A602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5F92-6339-4603-90A0-2EF4423D7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60C1-BB90-4527-915D-99AC3F4D9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493B-BA3E-40EB-9DB8-0A824C133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41D0-61FF-4185-9396-903CB44F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F696-3FB9-4945-A65F-88109BA5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EEB0-E35B-4EEC-8D79-0C98355E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E21E-954E-4F1F-AFFA-6903D2A0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E3ED-900D-4192-9CE7-09182313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AF06-4041-41E1-A4E9-0A01F67F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6DC8-956B-4E74-BF4D-C65CB0EB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E4C9-869E-423E-BAA1-6D7B9583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C652-8255-4266-A81F-16D84CBA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724A-3750-42F1-81D3-39F99CAF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3F34-EEDC-432D-BF6F-DBD3200B3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BECA-BBE5-4E5B-85FF-02FB3580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15385-1285-4239-9CE2-CCF1B9E10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C5C7A-B872-42D3-A192-4CA91F81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D20D2-CC10-4A0F-92C6-BD77168F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8B3C1-FCB9-4977-90B2-8F22AD80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20252-EBCF-4F5E-86CA-BF0F4EBB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C9F4-187F-4177-A816-1CD0E935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A5E41-7410-4886-B838-8E94E353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0AB1C-9516-4F7B-B328-E0476371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693EF-78E5-4A31-A046-779C9185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C3C7C-F7D3-49BE-833D-3A13EE49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DB4D7-D19E-4E8C-9000-A14ADB5A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3C972-CC94-47FE-B4F5-19DC07DFF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381FD-2F3C-4C60-97D6-F1A5F6FE5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3CBD-3C75-44B1-B56F-EC2904EC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A9BB-D007-420F-8A59-728A63DD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E607-3D28-4F34-9502-A3BD61CB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C245-D794-4DFD-A577-18EC5699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16E1-CDAB-4295-8EAC-E250E4D2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E2DB-DA06-4B7E-A34E-4F061EF4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B685-9CBB-486B-A989-6FD6762B3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B8E4-6426-4656-8EB5-32F729E63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83C0-CBFC-41E5-AC6F-2CA07F6C7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cc99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Blackadder ITC"/>
              </a:rPr>
              <a:t>Earthquakes on the mov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lackadder ITC"/>
              </a:rPr>
              <a:t>By: Nathan Ashcroft &amp; Alex Cabre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1" name="bomb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50000">
              <a:srgbClr val="00cc00"/>
            </a:gs>
            <a:gs pos="100000">
              <a:srgbClr val="00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Blackadder ITC"/>
              </a:rPr>
              <a:t>Types Of Stres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lackadder ITC"/>
              </a:rPr>
              <a:t>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lackadder ITC"/>
              </a:rPr>
              <a:t>Comp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lackadder ITC"/>
              </a:rPr>
              <a:t>And She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  <p:sndAc>
      <p:stSnd>
        <p:snd r:embed="rId1" name="drumroll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pperplate Gothic Bold"/>
              </a:rPr>
              <a:t>Tens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ension stretches the r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t’s like pulling apart a warm piece of bubbleg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886200" y="3429000"/>
            <a:ext cx="3808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432e2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mpress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ression pushes the rocks toge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ression is kind of like a convergent bound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lace where two plates come togeth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conver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d"/>
    <p:sndAc>
      <p:stSnd>
        <p:snd r:embed="rId1" name="applause.wav"/>
      </p:stSnd>
    </p:sndAc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ackadder ITC"/>
              </a:rPr>
              <a:t>Shear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Stress that pushes a mass of rock in two opposite directions is called shea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Shearing can cause rock to break and slip apart or to change it’s sh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80880" y="228240"/>
            <a:ext cx="9524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ackadder ITC"/>
              </a:rPr>
              <a:t>Kind of  faul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faults: a fault in which hanging wall  has moved downward relative to the footw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rse fault: a fault in which the hanging wall has moved upward relative to the footw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ke slip fault :a geological fault in which one of the adjacent  surfaces appears to have moved horizont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ush Script MT"/>
              </a:rPr>
              <a:t>antic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line :a fold  with strata sloping down- ward  on both sides from a common cre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1T16:23:19Z</dcterms:created>
  <dc:creator>nathanashcroft</dc:creator>
  <dc:description/>
  <dc:language>en-US</dc:language>
  <cp:lastModifiedBy>josecabrera</cp:lastModifiedBy>
  <dcterms:modified xsi:type="dcterms:W3CDTF">2008-02-07T19:30:26Z</dcterms:modified>
  <cp:revision>13</cp:revision>
  <dc:subject/>
  <dc:title>Earthquakes on the move</dc:title>
</cp:coreProperties>
</file>